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15D-48EF-45E5-8D23-C67D5706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D2E-8E45-4D29-860C-E7B97C96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697-8C1A-4034-842F-E72DCB87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6F3-F426-4BA2-8C0E-FDA9715D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A2BB-F0F7-4366-8C9A-7DF26AF7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D1D7-0EBB-4E98-A3E6-6CBA10CF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3D9E-060B-45D6-850B-E59D9A42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1253-6A4A-442E-9B7B-BD78CD61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F0F8-684E-414E-99DD-6CF88B31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87D8-EF3E-4A12-A6FD-77FE041C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07FB-B568-48A1-B1C4-BC24ABDB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AA1-60A9-4260-8FD8-92EEF531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05B8-E855-4378-B690-57F928E8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E5E6-367E-4E01-912B-A22ACB86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116C-5F4D-403E-B58F-03CA7400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AC4E-EAF2-4170-85E6-B2562DEC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F793-D95A-4DB4-B1F1-A6882004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06C-3888-401B-A27C-26EBD0C6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A25-FEA0-4BEB-AA0D-DD51A0A7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394-E007-41AB-A632-E38993C2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F9D-B526-4457-97DE-829F1AAB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B56-FE8F-41DF-9A9B-FA37D34E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58F-6E2E-4B7C-A424-B037BDE0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5A4-9FBD-4EE0-963D-222537CD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29DF-C2E9-4BCB-A4CA-876A591BD60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6B84-BD85-44B9-B01B-D91503FADEB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Mendel</a:t>
            </a:r>
            <a:r>
              <a:rPr b="0" lang="ja-JP" sz="6000" spc="-1" strike="noStrike">
                <a:solidFill>
                  <a:srgbClr val="ccffff"/>
                </a:solidFill>
                <a:latin typeface="Arial"/>
              </a:rPr>
              <a:t>’</a:t>
            </a: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s Laws of Heredity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Why we look the way we look..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Law of Independent Assortment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genes for different traits ar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inherited independentl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of each other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many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re there for each trait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an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many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does a parent pass on to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ac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offspring for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ac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rai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do we call the trait that is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bserve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as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upper or lower)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it written in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bout the one tha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sappear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 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67480" indent="-2674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as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it written in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Phenotype &amp; Genotype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Phenotyp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the way an organism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ok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d hair or brown hai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enotyp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th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 combinatio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a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a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Heterozygous &amp; Homozygou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eterozygou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- if the two alleles for a trait ar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fferent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omozygous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- if the two alleles for a trait are th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ame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phenotyp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genotyp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omozygou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terozygou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monohybrid cross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What is </a:t>
            </a:r>
            <a:r>
              <a:rPr b="0" lang="en-US" sz="60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passing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n of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characteristics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traits)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rom parents to offspring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s the study of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Mendel used peas...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y reproduc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sexually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y have two distinct,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a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emal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, sex cells called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mete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i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rait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re easy to isolat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Mendel </a:t>
            </a: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crossed</a:t>
            </a: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 them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Fertilizatio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the uniting of male and female gamete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Cros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- combining gametes from parents with different trait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Comic Sans MS"/>
              </a:rPr>
              <a:t>Questions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did Mendel cross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trait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re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amet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fertilization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enetic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Comic Sans MS"/>
              </a:rPr>
              <a:t>What Did Mendel Find?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e discovered different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law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ru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hat explain  factors affecting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heredit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Rule of Unit Factors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ach organism has two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lleles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r each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trai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lvl="2" marL="1062720" indent="-2124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Allele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 different forms of the same 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ge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2" marL="1062720" indent="-2124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Genes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 located on chromosomes, they control how an organism develop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Rule of Dominance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rait t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s observe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n the offspring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dominant trai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uppercase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rait that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sappears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 the offspring is the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recessive trai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(lowercase)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Law of Segregation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two alleles for a trait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must separat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when gametes are formed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 parent randomly pass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nly on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lele for each trait to each offspr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9:25:12Z</dcterms:created>
  <dc:creator>Newport News</dc:creator>
  <dc:description/>
  <dc:language>en-US</dc:language>
  <cp:lastModifiedBy>Matt Wegimont</cp:lastModifiedBy>
  <dcterms:modified xsi:type="dcterms:W3CDTF">2013-01-07T21:25:05Z</dcterms:modified>
  <cp:revision>14</cp:revision>
  <dc:subject/>
  <dc:title>Mendel’s Laws of Heredity</dc:title>
</cp:coreProperties>
</file>